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exei Copperplat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FFC5-D9F5-4948-A61B-31B5572CE445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0EDE-0DAC-4DF4-BE64-AAEB74C3AA47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9092-B64A-41EB-B3FA-296B4D8F04E2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01AE-F5FE-4802-9962-59C8ED4A7D60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5137-3B98-447B-A8E5-D1C1E99D7F48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1E06-0005-4870-A7ED-04E78B04577A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C35-A84C-4964-87BC-333C4D50D27A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55DC-AEE0-447E-B5A8-227973CA94DA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A06C-1B20-4E2E-8536-605F3C20CF66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D85-1050-440C-92A9-70B1D69F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0EE-1759-469B-9D71-83E7FB9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236-B187-434E-BE5F-2B2AE2CF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84E-5576-49A2-A6A2-E4B89B2E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260A-622E-49E8-9804-4100B9C1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0365-F763-4F97-8E04-020ECC6F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D135-3AF3-4ED7-A837-C64CF423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9371-B477-4937-8873-8D2A714B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F432-7A8A-4738-8B77-1422487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167B-75AD-40B3-89DB-F2A9934C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0AA5-8CF9-48FF-B97D-32698FC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7CD-C92F-4486-B6D4-081D6157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6361-0263-473D-80EC-E75E4F1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1661-5C1F-4778-8FE2-22D37E2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9ED4-9F21-4EC2-A472-218CBD04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B87F-4CC1-4A4A-8847-B3673F65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9F18-D115-4E3F-9950-12CC3D91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8EA-20B3-42A3-B9A6-E358CECE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702-7582-4B0B-AA08-E298D74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C79-997F-46D0-A531-A6167145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496-3B71-4EAD-BCCF-E084E329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197-0661-465D-BFD6-2F139E22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40D-4F9C-4149-973B-4F9CFB0D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7D3-0C64-4BC9-A5FE-4739AED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1C3C-9423-4FF6-976B-7B8B00D3596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lexei Copperplate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lexei Copperplate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lexei Copperplate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4211-4B2A-4976-8EE1-E2E94473EB56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wikispaces.com/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79680" y="1519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ngage Learning with Techn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9" name="Picture 5" descr="computer_surfing_lg_nwm.gif"/>
          <p:cNvPicPr/>
          <p:nvPr/>
        </p:nvPicPr>
        <p:blipFill>
          <a:blip r:embed="rId1"/>
          <a:stretch/>
        </p:blipFill>
        <p:spPr>
          <a:xfrm>
            <a:off x="1371600" y="-15228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676520" y="220968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ustralian Sunrise"/>
              </a:rPr>
              <a:t>ALICE JOHNSON JUNIOR HIGH SCHOOL </a:t>
            </a:r>
            <a:endParaRPr b="0" lang="en-US" sz="2800" spc="-1" strike="noStrike">
              <a:solidFill>
                <a:srgbClr val="000000"/>
              </a:solidFill>
              <a:latin typeface="Alexei Copperplat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ustralian Sunrise"/>
              </a:rPr>
              <a:t>LEADERSHIP OFFICERS’ TRAINING CORPS (LOTC)</a:t>
            </a:r>
            <a:endParaRPr b="0" lang="en-US" sz="2800" spc="-1" strike="noStrike">
              <a:solidFill>
                <a:srgbClr val="000000"/>
              </a:solidFill>
              <a:latin typeface="Alexei Copperplate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48120" y="3809880"/>
            <a:ext cx="4673520" cy="2921040"/>
            <a:chOff x="3048120" y="3809880"/>
            <a:chExt cx="4673520" cy="2921040"/>
          </a:xfrm>
        </p:grpSpPr>
        <p:pic>
          <p:nvPicPr>
            <p:cNvPr id="122" name="Picture 1029" descr="http://us-flag.net/pictures/clipart/american-flag-clip-art-waving-waves.png"/>
            <p:cNvPicPr/>
            <p:nvPr/>
          </p:nvPicPr>
          <p:blipFill>
            <a:blip r:embed="rId2"/>
            <a:stretch/>
          </p:blipFill>
          <p:spPr>
            <a:xfrm rot="3619800">
              <a:off x="5256000" y="4265640"/>
              <a:ext cx="208584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7" descr="lotc hornet (2).jpg"/>
            <p:cNvPicPr/>
            <p:nvPr/>
          </p:nvPicPr>
          <p:blipFill>
            <a:blip r:embed="rId3"/>
            <a:stretch/>
          </p:blipFill>
          <p:spPr>
            <a:xfrm>
              <a:off x="3048120" y="3809880"/>
              <a:ext cx="2787480" cy="247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tudent Objectives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14600" y="3559320"/>
            <a:ext cx="6477120" cy="29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learn why facebook and wikispaces are excellent tools of communication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learn how to implement the networking websites into LOTC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052" descr="http://www.breadonthewaters.com/add/1568_computer_instructor_clipart.jpg"/>
          <p:cNvPicPr/>
          <p:nvPr/>
        </p:nvPicPr>
        <p:blipFill>
          <a:blip r:embed="rId1"/>
          <a:stretch/>
        </p:blipFill>
        <p:spPr>
          <a:xfrm>
            <a:off x="3657600" y="152280"/>
            <a:ext cx="2982960" cy="211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057400" y="32767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ollaborative and Safe Learn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ite people to your wiki with an invit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 tool for cadets to share information with supervision by LOTC leaders and i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as a LOTC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competition instructions a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endar for all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major LOTC activities for the school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30"/>
          <p:cNvSpPr/>
          <p:nvPr/>
        </p:nvSpPr>
        <p:spPr>
          <a:xfrm>
            <a:off x="4481640" y="-18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lexei Copperplate"/>
            </a:endParaRPr>
          </a:p>
        </p:txBody>
      </p:sp>
      <p:pic>
        <p:nvPicPr>
          <p:cNvPr id="129" name="Picture 1029" descr="bonsai tr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523880"/>
            <a:ext cx="761760" cy="911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31"/>
          <p:cNvSpPr/>
          <p:nvPr/>
        </p:nvSpPr>
        <p:spPr>
          <a:xfrm>
            <a:off x="3372480" y="1700640"/>
            <a:ext cx="3897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9900"/>
                </a:solidFill>
                <a:uFillTx/>
                <a:latin typeface="Alexei Copperplate"/>
                <a:hlinkClick r:id="rId3"/>
              </a:rPr>
              <a:t> Wikispaces</a:t>
            </a:r>
            <a:endParaRPr b="0" lang="en-US" sz="5400" spc="-1" strike="noStrike">
              <a:solidFill>
                <a:srgbClr val="000000"/>
              </a:solidFill>
              <a:latin typeface="Alexei Copperplate"/>
            </a:endParaRPr>
          </a:p>
        </p:txBody>
      </p:sp>
      <p:pic>
        <p:nvPicPr>
          <p:cNvPr id="131" name="Picture 1032" descr="http://www.augusta.k12.va.us/668710674489163/lib/668710674489163/computer_clipart.gif"/>
          <p:cNvPicPr/>
          <p:nvPr/>
        </p:nvPicPr>
        <p:blipFill>
          <a:blip r:embed="rId4"/>
          <a:stretch/>
        </p:blipFill>
        <p:spPr>
          <a:xfrm>
            <a:off x="6248520" y="228600"/>
            <a:ext cx="236196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437920" y="335232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Up:  </a:t>
            </a:r>
            <a:r>
              <a:rPr b="0" lang="en-US" sz="2800" spc="-1" strike="noStrike" u="sng">
                <a:solidFill>
                  <a:srgbClr val="cc9900"/>
                </a:solidFill>
                <a:uFillTx/>
                <a:latin typeface="Tahoma"/>
                <a:hlinkClick r:id="rId1"/>
              </a:rPr>
              <a:t>www.wikispace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your wiki started in under a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 and personalize your wiki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 and file up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age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a tour to learn how to edit your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29" descr="bonsai tree"/>
          <p:cNvPicPr/>
          <p:nvPr/>
        </p:nvPicPr>
        <p:blipFill>
          <a:blip r:embed="rId2"/>
          <a:stretch/>
        </p:blipFill>
        <p:spPr>
          <a:xfrm>
            <a:off x="2514600" y="228600"/>
            <a:ext cx="762120" cy="911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1"/>
          <p:cNvSpPr/>
          <p:nvPr/>
        </p:nvSpPr>
        <p:spPr>
          <a:xfrm>
            <a:off x="2782440" y="231840"/>
            <a:ext cx="415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lexei Copperplate"/>
              </a:rPr>
              <a:t>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lexei Copperplate"/>
              </a:rPr>
              <a:t>Wikispaces</a:t>
            </a:r>
            <a:endParaRPr b="0" lang="en-US" sz="5400" spc="-1" strike="noStrike">
              <a:solidFill>
                <a:srgbClr val="000000"/>
              </a:solidFill>
              <a:latin typeface="Alexei Copperplate"/>
            </a:endParaRPr>
          </a:p>
        </p:txBody>
      </p:sp>
      <p:pic>
        <p:nvPicPr>
          <p:cNvPr id="135" name="Picture 1031" descr="get started"/>
          <p:cNvPicPr/>
          <p:nvPr/>
        </p:nvPicPr>
        <p:blipFill>
          <a:blip r:embed="rId3"/>
          <a:stretch/>
        </p:blipFill>
        <p:spPr>
          <a:xfrm>
            <a:off x="3809880" y="1219320"/>
            <a:ext cx="2438640" cy="1842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29" descr="Facebook logo"/>
          <p:cNvPicPr/>
          <p:nvPr/>
        </p:nvPicPr>
        <p:blipFill>
          <a:blip r:embed="rId1"/>
          <a:stretch/>
        </p:blipFill>
        <p:spPr>
          <a:xfrm>
            <a:off x="120600" y="-604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31" descr="Facebook logo"/>
          <p:cNvPicPr/>
          <p:nvPr/>
        </p:nvPicPr>
        <p:blipFill>
          <a:blip r:embed="rId2"/>
          <a:stretch/>
        </p:blipFill>
        <p:spPr>
          <a:xfrm>
            <a:off x="168120" y="-1825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33" descr="http://lifeinthenhs.files.wordpress.com/2009/02/facebook.jpg"/>
          <p:cNvPicPr/>
          <p:nvPr/>
        </p:nvPicPr>
        <p:blipFill>
          <a:blip r:embed="rId3"/>
          <a:stretch/>
        </p:blipFill>
        <p:spPr>
          <a:xfrm>
            <a:off x="2895480" y="152280"/>
            <a:ext cx="3848400" cy="28861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1"/>
          <p:cNvSpPr/>
          <p:nvPr/>
        </p:nvSpPr>
        <p:spPr>
          <a:xfrm>
            <a:off x="1600200" y="3352680"/>
            <a:ext cx="7391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Facebook Qualities: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Facebook's gives people the power to share and make the world more open and connected.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Keep the LOTC Corps of Cadets connected to work on projects, even at home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Upload an unlimited number of photos, share links and videos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Choose to share or maintain security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Brainstorm for service learning activities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71600" y="2895480"/>
            <a:ext cx="583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ll:  Users can post messages and collaborate on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Place:  Advertise LOTC and share competitio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Page:  Keep all events organize and keep other cadets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tting feature:  Chat with other cadets about projects, activiti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735600" y="2057400"/>
            <a:ext cx="2079720" cy="1752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acebook.jpg"/>
          <p:cNvPicPr/>
          <p:nvPr/>
        </p:nvPicPr>
        <p:blipFill>
          <a:blip r:embed="rId2"/>
          <a:stretch/>
        </p:blipFill>
        <p:spPr>
          <a:xfrm>
            <a:off x="2971800" y="152280"/>
            <a:ext cx="3581280" cy="1347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2819520" y="21337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lexei Copperplate"/>
              </a:rPr>
              <a:t>www.facebook.com</a:t>
            </a:r>
            <a:endParaRPr b="0" lang="en-US" sz="28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verview of Less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6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ll make an organization facebook and wikispaces page with laptop and proj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ze the pages for LO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pages to determine which is the best choice for  LO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C:\Program Files\Common Files\Microsoft Shared\Clipart\CagCat50\SO01038_.wmf"/>
          <p:cNvPicPr/>
          <p:nvPr/>
        </p:nvPicPr>
        <p:blipFill>
          <a:blip r:embed="rId1"/>
          <a:stretch/>
        </p:blipFill>
        <p:spPr>
          <a:xfrm>
            <a:off x="6324480" y="1905120"/>
            <a:ext cx="2646360" cy="2662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onclus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ll understand the pros and  cons of social network web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evaluate facebook and wiki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ll read and understand the district’s acceptable us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http://www.longfellow.d21.k12.il.us/images/computer_clipart_mouse.gif"/>
          <p:cNvPicPr/>
          <p:nvPr/>
        </p:nvPicPr>
        <p:blipFill>
          <a:blip r:embed="rId1"/>
          <a:stretch/>
        </p:blipFill>
        <p:spPr>
          <a:xfrm>
            <a:off x="7010280" y="254160"/>
            <a:ext cx="1447920" cy="1126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Program Files\Common Files\Microsoft Shared\Clipart\CagCat50\SY01265_.wmf"/>
          <p:cNvPicPr/>
          <p:nvPr/>
        </p:nvPicPr>
        <p:blipFill>
          <a:blip r:embed="rId2"/>
          <a:stretch/>
        </p:blipFill>
        <p:spPr>
          <a:xfrm>
            <a:off x="1676520" y="2057400"/>
            <a:ext cx="1941480" cy="411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ternet Reference Sit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wikispace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facebook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ducationalnetworking.com/List+of+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-lag.net/pictures/clipar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" descr="http://www.wilsoninfo.com/computer/computerimages1.jpg"/>
          <p:cNvPicPr/>
          <p:nvPr/>
        </p:nvPicPr>
        <p:blipFill>
          <a:blip r:embed="rId1"/>
          <a:stretch/>
        </p:blipFill>
        <p:spPr>
          <a:xfrm>
            <a:off x="5257800" y="3657600"/>
            <a:ext cx="2252520" cy="2922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6:33:18Z</dcterms:created>
  <dc:creator>Instructional</dc:creator>
  <dc:description/>
  <dc:language>en-US</dc:language>
  <cp:lastModifiedBy>Felicia</cp:lastModifiedBy>
  <cp:lastPrinted>2009-04-22T19:24:48Z</cp:lastPrinted>
  <dcterms:modified xsi:type="dcterms:W3CDTF">2010-01-26T03:44:56Z</dcterms:modified>
  <cp:revision>23</cp:revision>
  <dc:subject/>
  <dc:title>Evaluating a Web Site</dc:title>
</cp:coreProperties>
</file>